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DDC-8D7E-4CB1-BDAB-2495D0D0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82B-9005-43FE-957A-DA4F0DA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4AD05-5DA0-49A5-A74D-771F616E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029E7-333B-4D0C-A38F-FA822B7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19CDC-AB7B-4FE8-8C08-1DDF10D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A6E89-877E-48A8-9BB8-FD23F04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256DE-784E-48C2-9305-CB3CB5B3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F3C2DB-D5B7-4604-97C4-A652CE4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FFDA8-1B48-47E4-9073-5824E09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27C02-49AF-40BB-87ED-3F427622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A4728-5B2E-49BA-A08D-528FCC6B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D68-9EAD-4C56-B7AB-CAFF967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5B1-24F8-45F1-A756-67A4A20D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5BF4A-32BB-4A82-90DA-6186998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D184-D6D7-409A-9361-D2F2029A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E890-EA7E-4AAE-BF81-984F3A54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10F58-ACE9-4A78-B723-910B3636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91F7-016C-4B22-85E7-4AC954F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167EE-2A0F-41C5-8AB6-2A26BCC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1FDE-64DE-4029-BD0B-FD2077C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BD4-C27B-436A-ADAB-1DE1402B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5BCF-D808-4AA1-8FD2-A6A81F1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46C08-57F0-4DCD-BE6A-A92B37A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0E22-8003-4984-ABE7-ACDE9BFE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D2DFA-C7F4-4687-92B4-40789327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F3811-BC39-4483-B74E-53BD0C93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0B207-0E12-42BE-B79E-455A72A6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E6CC-E31B-4468-BD37-AFA9A5D9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902D-B5FA-4466-8C4A-37A6500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F284-2A86-43C4-AC0A-24077C2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5BC1-98F0-48DD-9CFD-97436954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5E9-0D08-4C7C-BAD4-03EAB9B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BEEC-DB3F-4EA3-8305-55E521D3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656F-F430-4B36-BCCE-BE8CE21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EF1B-25B8-431A-AD54-6883031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0EE8-AD10-45EC-AFB6-A3781519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BD3E-F716-4B35-B1FC-3917484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A556-D1FB-415D-8731-6A6BA429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746D-0D89-4C5B-A96F-91A8B9D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0C8D5-03C0-4F7C-8018-87491AE5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742EB-40A6-4C1F-9828-925D3D2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CAA62-A61C-4945-AF7D-AF99593E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6BD-674B-442C-BC20-EA8E776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9012E-5EC5-461A-A186-FF55A258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E98E9-2CA1-479F-A16E-5B7249D1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232EE-4373-47C4-ABC0-106C163D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62A499-08F6-4586-98B0-10038163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423CA-0552-4BD5-8A1C-3446B0F1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AFF7A-5A7D-40CE-B7A9-4CB08F1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7B3B6-14FA-40BF-8C0C-038B28AF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F730B-049A-4BBF-9336-C3AD1BF4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5BA4E-48B1-4BA5-913D-262E5281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32CB2-EFAB-4ADB-A7F2-3AA2C2D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56C-AA4C-4181-8D6A-A931BF9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7B45-B6BA-4EA8-95ED-1FC44EF4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F2A5-E3F9-4997-B05B-71C8AE81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279A-849E-42D5-AD6E-1C4AAE8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8CC6-1000-407C-810B-3D30334B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00CA-8B86-4A2F-BC88-95C8E54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E241-C8DD-4984-9CDC-26332AF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AC03-1C34-45A8-AFF5-D462859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0858-4985-4D5E-B41E-8474D4E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A8CD-9C9D-4975-B4D0-266ACA9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0EAB-D8CE-413F-9DE9-4DAC5BAA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C85-7D1B-423F-9499-DEB2E95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26E6-789E-471B-84F7-3D58A309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D7DE-964F-4AFB-9B1D-A4135EDF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4EB4-FA9E-4B07-AE7C-F6131315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3683-6A0B-4A1E-921C-87F375F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F419-5830-4920-A8D3-5C74109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68C0-33D7-46A8-829B-9A0E1D5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A4D13-5AFE-43C4-B454-AD09DA17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6FB3-3D4F-41CB-83F6-C2FCF243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B85A-CB3D-41EB-8D6B-E95B10D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0214-DEE7-4A62-B7E5-9641F7F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7ED-C552-427B-9401-B7E66322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0CFC0-4C29-42AB-822D-AF674768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5F4CC-E1B5-430A-8DF8-22A434F8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BB63-8611-402D-AD8A-C0E4B692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8704-63E6-4883-A866-110DCF07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5F5D5-5F8B-44E4-B403-CF19DFA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3249-B9DA-4D6E-AD41-341E9A1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99B62-4F71-4637-BEDF-4D19DCF7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7283-E9D9-4A7F-A942-57BF4FF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D4ABD-27D0-405B-903C-CF74ADD8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62DC-AE37-43FE-A7C4-EF6383C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D45-6086-4174-BE7E-3F03FA2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0B4A-131D-4515-96D0-1C323CF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E2B1-4B6C-4EEF-B6BA-15A0464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102E-997F-4631-AE30-BA8EFF3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16A8-216D-4888-B30A-C7C7693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07F6-A3B6-4064-8B6D-10D16610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6E63E-5766-42AC-9931-6A996555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55ACE-9C3B-4187-9E5C-60E01B1D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F96C1-315A-452F-A419-2B53B5B1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4A691A-185B-4C04-A668-2ABD894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1F35C-75F5-4918-B875-C526E724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4F5-E0EC-4A22-AE71-2A691D0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13DFB-7F5C-4EBF-BEF2-644C297D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F715ED-FC8A-4FEB-BAEF-D30A2D58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DCA0FC-EB88-4742-8A66-42CA576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AD578-732B-4F59-9DDC-C3072BE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89012F-F1B6-4061-BC95-63730A59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78515-508E-44EE-A163-19BE23B3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022C3-45E7-4E82-B991-60AC41A8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BE1B72-F2F3-4B12-A68D-307CE41D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98FFF7-FE39-4919-BEA0-16A1DAD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65459-9E65-462D-929D-2F58F049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D480-DCD7-4C68-B99A-2EAAE0F22329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8E8-6F1D-4FE8-9299-4C8DA6E76C72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C3F-0E7A-4751-AB84-2C463B1FAD53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232-FF95-41DD-9B34-843DFCDAA7DA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2A8C-16FF-461D-84BA-58C1B310F071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78B5-09F7-4FF5-8631-91CB9CE35B68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755-583C-4E56-ADBC-85C0A1E40F30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34F-C354-406A-9ABC-395B7EF3D8B0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5FF-60C1-4CD6-80E4-C3737B56B32A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3 Título" descr=""/>
          <p:cNvPicPr/>
          <p:nvPr/>
        </p:nvPicPr>
        <p:blipFill>
          <a:blip r:embed="rId1"/>
          <a:stretch/>
        </p:blipFill>
        <p:spPr>
          <a:xfrm>
            <a:off x="725400" y="500040"/>
            <a:ext cx="8143920" cy="30481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22160" y="3287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La deforestación y transformación del paisaje vegetal ha respetado zonas de alta montaña y regiones apartadas. Todavía se conservan bosques de hayas y robles, bosques mediterráneos de quejigos, encinas o alcornoq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 principales de la degradación: </a:t>
            </a:r>
            <a:r>
              <a:rPr b="0" lang="es-ES" sz="3200" spc="-1" strike="noStrike">
                <a:solidFill>
                  <a:srgbClr val="ff0000"/>
                </a:solidFill>
                <a:latin typeface="Rockwell"/>
              </a:rPr>
              <a:t>incendios, técnicas de monocultivo, desertificació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3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190600" y="2224080"/>
            <a:ext cx="4762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571760" y="20527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ockwell"/>
              </a:rPr>
              <a:t>Naturales: rayo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Rockwell"/>
              </a:rPr>
              <a:t>Inducidas por el hombre: descuidos, provocados para ampliar tierras de cultivos, aprovechar la madera quemada, recalificaciones, venganzas personales, etc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4884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Revisar la política de repoblaciones forestales, no abusando de especies pirófila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Fomentar la mezcla de especies y realizar trabajos de silvicultura preventiv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Tener en cuenta los intereses de la población rural a la hora de las explotaciones forestale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Establecer marcos legale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Mejorar sistemas de prevención, detección y extinción de incendi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Rockwell"/>
              </a:rPr>
              <a:t>Realizar campañas de sensibilización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ffffff"/>
                </a:solidFill>
                <a:latin typeface="Rockwell"/>
              </a:rPr>
              <a:t>"</a:t>
            </a:r>
            <a:r>
              <a:rPr b="0" lang="es-ES_tradnl" sz="3800" spc="-1" strike="noStrike">
                <a:solidFill>
                  <a:srgbClr val="ffffff"/>
                </a:solidFill>
                <a:latin typeface="Rockwell"/>
              </a:rPr>
              <a:t>Por </a:t>
            </a:r>
            <a:r>
              <a:rPr b="0" lang="es-ES_tradnl" sz="3800" spc="-1" strike="noStrike">
                <a:solidFill>
                  <a:srgbClr val="ff0000"/>
                </a:solidFill>
                <a:latin typeface="Rockwell"/>
              </a:rPr>
              <a:t>diversidad biológica </a:t>
            </a:r>
            <a:r>
              <a:rPr b="0" lang="es-ES_tradnl" sz="3800" spc="-1" strike="noStrike">
                <a:solidFill>
                  <a:srgbClr val="ffffff"/>
                </a:solidFill>
                <a:latin typeface="Rockwell"/>
              </a:rPr>
              <a:t>se entiende la variabilidad de organismos vivos de cualquier fuente, incluidos, entre otras cosas, los ecosistemas terrestres y marinos y otros ecosistemas acuáticos y los complejos ecológicos de los que forman parte; comprende la diversidad dentro de cada especie, entre las especies y de los ecosistemas</a:t>
            </a:r>
            <a:r>
              <a:rPr b="1" i="1" lang="es-ES_tradnl" sz="3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3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3 Título" descr=""/>
          <p:cNvPicPr/>
          <p:nvPr/>
        </p:nvPicPr>
        <p:blipFill>
          <a:blip r:embed="rId1"/>
          <a:stretch/>
        </p:blipFill>
        <p:spPr>
          <a:xfrm>
            <a:off x="426960" y="-646200"/>
            <a:ext cx="8418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12500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Este concepto contiene tres ideas básicas: son los llamados </a:t>
            </a:r>
            <a:r>
              <a:rPr b="1" lang="es-ES_tradnl" sz="1800" spc="-1" strike="noStrike">
                <a:solidFill>
                  <a:srgbClr val="ffffff"/>
                </a:solidFill>
                <a:latin typeface="Rockwell"/>
              </a:rPr>
              <a:t>componentes de la biodiversidad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los ecosistem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variedad de sistemas ecológicos diferente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entidades biológicas naturales en las que la característica fundamental es la capacidad de intercambio genético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La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 diversidad genética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la variabilidad de genes que las especies contienen en sus poblaciones e individuos, que les hace ser ligeramente diferentes unos de otros y , con ello, les permite evolucionar y, en su caso, adaptarse a los cambios del medio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baseline="30000">
                <a:solidFill>
                  <a:srgbClr val="ffffff"/>
                </a:solidFill>
                <a:latin typeface="Rockwell"/>
              </a:rPr>
              <a:t>    </a:t>
            </a: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Rockwell"/>
              </a:rPr>
              <a:t>Artículo 2 del Convenio Internacional sobre la Diversidad Biológica. 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Rockwell"/>
              </a:rPr>
              <a:t>Conferencia de Naciones Unidad sobre Medio Ambiente y Desarrollo. Río de Janeiro 1992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a superficie del tamaño de diez campos de fútbol ubicado en las selvas de Borneo se pueden encontrar más especies de árboles que en todo el continente norteamericano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 solo árbol del Perú se han llegado a contabilizar un número de especies de hormigas similar al total de las que habitan en todas las islas Británicas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Panamá, con una superficie más de 6 veces menor que la española, contiene un número identificado de vertebrados terrestres más de dos veces y media superior al español (1424 frente a 534) y eso que España es uno de los enclaves de Europa con mayor biodiversidad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La biodiversidad es el fruto de millones de años de evolución, resultado de adaptación de la vida a los distintos ambientes y fruto de la selección natural. Proceso descrito básicamente por Charles Dar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2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186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5 Título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552160" cy="1469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Regiones polares y circumpo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Desiert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Áreas de alta montañ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Zonas húmed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Mang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Arrecifes de cor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rader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Bosques de coníferas y bosques caducifoli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Selv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3964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forma resumida se podría decir que sin ella la vida del hombre sobre la Tierra sería imposibl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la biodiversidad dependen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a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fotosíntesi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si no existiesen plantas no habría fotosíntesi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ella, a su vez, depende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La producción primaria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síntesis de materia  orgánica a partir de la luz solar, agua y 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Base de toda red trófica de los ecosistemas, incluyendo al hombr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Producción de oxígeno y eliminación del C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, con lo que los organismos aerobios no podrían realizar su respiración. Ello, además, contribuye al mantenimiento de la composición gaseosa de la atmósfera y a la estabilidad climátic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4787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765000"/>
            <a:ext cx="822960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b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formación y el mantenimiento de los suel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sin ellos no existirían las plantas y sin ellas no existiría la vid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c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ciclos biogeoquím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mecanismos naturales de reciclado de la materia, entre los que destacan la mineralización y saneamiento de los productos orgánicos de desecho. La ausencia de microorganismos, hongos, artrópodos y otros invertebrados implicaría la inmediata inhabitabilidad de la biosfera solo por la interrupción de esta función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d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flujos energét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a lo largo de los distintos componentes de la biocenosi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e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polinización y diseminación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de semilla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f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El control de la erosión del suelo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9792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692280"/>
            <a:ext cx="82296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g)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Rockwell"/>
              </a:rPr>
              <a:t>Control de poblaciones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: la biodiversidad contribuye al mantenimiento de toda una serie de ajustes entre las distintas poblaciones lo que evita crecimientos explosivos de alguna de ellas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h)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Rockwell"/>
              </a:rPr>
              <a:t>La alimentación humana y la obtención de productos farmacéuticos: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La alimentación humana depende en un 99% de sustancias producidas  directamente por los seres viv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Más del 40% de todos los medicamentos comercializados provienen   directamente de sustancias proporcionadas por los seres viv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4264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 Cuantos nuevos productos farmacéuticos, alimentarios o industriales obtenidos directamente o a través de la utilización de la biotecnología sobre el potencial genético procedente de la biodiversidad se perderán con la desaparición de nuevas especies, hoy todavía desconocida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400" y="1000080"/>
            <a:ext cx="82580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La extinción de las especies depende en un 99% de causas producidas por el hombre: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Unas 100.000 especies están desapareciendo al año y de seguir con el ritmo actual la cuarta parte de todas las especies desaparecerá en un plazo de  unos 30 años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La mayor tragedia en la pérdida de la biodiversidad corresponde al proceso de destrucción de los ecosistemas más ricos en ella: los bosques tropicales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2 Título" descr=""/>
          <p:cNvPicPr/>
          <p:nvPr/>
        </p:nvPicPr>
        <p:blipFill>
          <a:blip r:embed="rId1"/>
          <a:stretch/>
        </p:blipFill>
        <p:spPr>
          <a:xfrm>
            <a:off x="785880" y="0"/>
            <a:ext cx="8235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2664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981000"/>
            <a:ext cx="822960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Se estima que unos 20 millones de hectáreas de bosques tropicales desaparecen cada año por tala o quema. Esto supone una superficie tal que representa la desaparición, cada dos años y medio, de un territorio, donde se alberga más de la mitad de todas las especies de la tierra,  similar al total de Españ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La mayor parte de las especies que hoy desaparecen son desconocid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Realmente se ha pasado de una situación en la que la extinción de especies estaba liderada por mecanismos de acoso directo: caza y pesca, fundamentalmente, a la actualidad, en donde es el deterioro global de la biosfera el que preside la amenaza sobre la biodiversidad. Las especies desaparecen porque sus medios naturales de vida se degradan o desaparece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2844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eterioro, destrucción y fragmentación de los hábitats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Desecado de humed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reación de Autopistas (osos asturianos)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Destrucción de bosques.</a:t>
            </a: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analización de rí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Grandes embalses que inundan selvas y val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Introducción de especies exóticas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angrejo Americano en Europa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Rockwell"/>
              </a:rPr>
              <a:t>Conejos en Australia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4" name="2 Título" descr=""/>
          <p:cNvPicPr/>
          <p:nvPr/>
        </p:nvPicPr>
        <p:blipFill>
          <a:blip r:embed="rId1"/>
          <a:stretch/>
        </p:blipFill>
        <p:spPr>
          <a:xfrm>
            <a:off x="500040" y="-171360"/>
            <a:ext cx="8485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169200"/>
            <a:ext cx="82296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333000"/>
            <a:ext cx="82296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Sobreexplotación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forestación (tala masiva de bosques tropicales)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Sobrepesc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Caza excesiv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Recolección de determinadas plantas (medicinales, etc.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4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ontaminación de suelos, aguas y atmósfer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5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ambio climátic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6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dustrialización e intensificación agrícola y forest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Extensas superficies de monocultivos atiborrados de plaguicidas y fertilizantes.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Plantaciones forestales de especies de rápido  crecimiento en lugares inadecuados y con métodos destructores del medio natur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1235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Junto con todo lo anteriormente descrito: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Hambre en el mundo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Inundaciones: consecuencia de la deforestación. Levante español. En Bangladesh por la deforestación del Himalay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Desertificación.    Toda pérdida de la biodiversidad: la degradación de un bosque, la pérdida de una especie, la desaparición de una raza autóctona, etc. conlleva una pérdida de nuestra calidad de vida, de nuestras expectativas de vivir mejor y un aumento de la ya larga cuenta negra de nuestra responsabilidad ética para con nuestros descendient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457200" y="-146160"/>
            <a:ext cx="854064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77300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Protección de especies en peligro de extinción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Establecimiento de sistemas de explotación sostenible</a:t>
            </a:r>
            <a:r>
              <a:rPr b="0" lang="es-ES_tradnl" sz="20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leyes de caza y pesca, establecimiento de cotos y períodos de veda que eviten la sobreexplotación de las distintas especies animales y vegetale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Rockwell"/>
              </a:rPr>
              <a:t>Protección de los distintos ecosistemas</a:t>
            </a:r>
            <a:r>
              <a:rPr b="0" lang="es-ES_tradnl" sz="20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0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cencos.org/files/images/Manglares.jpg"/>
          <p:cNvPicPr/>
          <p:nvPr/>
        </p:nvPicPr>
        <p:blipFill>
          <a:blip r:embed="rId1"/>
          <a:stretch/>
        </p:blipFill>
        <p:spPr>
          <a:xfrm>
            <a:off x="1785960" y="128592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Rockwell"/>
              </a:rPr>
              <a:t>Creación de bancos de genes</a:t>
            </a:r>
            <a:r>
              <a:rPr b="0" lang="es-ES_tradnl" sz="2400" spc="-1" strike="noStrike">
                <a:solidFill>
                  <a:srgbClr val="ff0000"/>
                </a:solidFill>
                <a:latin typeface="Rockwell"/>
              </a:rPr>
              <a:t>,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jardines botánicos y fomento, para determinadas especies, de cría en cautividad: Aunque no es la mejor solución puede contribuir a la perdurabilidad de ciertas espec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Rockwell"/>
              </a:rPr>
              <a:t>A nivel personal, se deberá evitar el coleccionismo</a:t>
            </a:r>
            <a:r>
              <a:rPr b="0" lang="es-ES_tradnl" sz="24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Rockwell"/>
              </a:rPr>
              <a:t>de especies vegetales o animales, tanto autóctonas como exóticas; la adquisición de animales de compañía en riesgo de extinción o la introducción de especies exóticas en nuestros hábita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estaticos04.ocholeguas.com/imagenes/2008/09/04/1219401715_0.jpg"/>
          <p:cNvPicPr/>
          <p:nvPr/>
        </p:nvPicPr>
        <p:blipFill>
          <a:blip r:embed="rId1"/>
          <a:stretch/>
        </p:blipFill>
        <p:spPr>
          <a:xfrm>
            <a:off x="1857240" y="1500120"/>
            <a:ext cx="4381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kalipedia.com/kalipediamedia/cienciasnaturales/media/200704/17/tierrayuniverso/20070417klpcnatun_255.Ies.SCO.jpg"/>
          <p:cNvPicPr/>
          <p:nvPr/>
        </p:nvPicPr>
        <p:blipFill>
          <a:blip r:embed="rId1"/>
          <a:stretch/>
        </p:blipFill>
        <p:spPr>
          <a:xfrm>
            <a:off x="500040" y="1357200"/>
            <a:ext cx="4786200" cy="353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teknociencia.files.wordpress.com/2009/07/coral_4.jpg"/>
          <p:cNvPicPr/>
          <p:nvPr/>
        </p:nvPicPr>
        <p:blipFill>
          <a:blip r:embed="rId2"/>
          <a:stretch/>
        </p:blipFill>
        <p:spPr>
          <a:xfrm>
            <a:off x="5715000" y="1000080"/>
            <a:ext cx="2857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http://files.nireblog.com/blogs4/procladeyanapay/files/selva.jpg"/>
          <p:cNvPicPr/>
          <p:nvPr/>
        </p:nvPicPr>
        <p:blipFill>
          <a:blip r:embed="rId1"/>
          <a:stretch/>
        </p:blipFill>
        <p:spPr>
          <a:xfrm>
            <a:off x="5572080" y="18572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http://eltamiz.com/wp-content/uploads/2007/12/selva-tropical.jpg"/>
          <p:cNvPicPr/>
          <p:nvPr/>
        </p:nvPicPr>
        <p:blipFill>
          <a:blip r:embed="rId2"/>
          <a:stretch/>
        </p:blipFill>
        <p:spPr>
          <a:xfrm>
            <a:off x="428760" y="571680"/>
            <a:ext cx="50482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html.rincondelvago.com/files/3/2/4/000633241.jpg"/>
          <p:cNvPicPr/>
          <p:nvPr/>
        </p:nvPicPr>
        <p:blipFill>
          <a:blip r:embed="rId1"/>
          <a:stretch/>
        </p:blipFill>
        <p:spPr>
          <a:xfrm>
            <a:off x="571680" y="1643040"/>
            <a:ext cx="2381040" cy="24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kalipedia.com/kalipediamedia/cienciasnaturales/media/200704/17/tierrayuniverso/20070417klpcnatun_386.Ies.SCO.jpg"/>
          <p:cNvPicPr/>
          <p:nvPr/>
        </p:nvPicPr>
        <p:blipFill>
          <a:blip r:embed="rId2"/>
          <a:stretch/>
        </p:blipFill>
        <p:spPr>
          <a:xfrm>
            <a:off x="3214800" y="1500120"/>
            <a:ext cx="5286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4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0200" cy="1785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xplotaciones madederas indiscriminada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gricultura transito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Desarrollo de pastos para ganad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Minería a cielo abiert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mbalses gigantesc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515440" cy="141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lanes económico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ondonación de deuda extern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Usos tradicionales del bosque (extracción de caucho, frutas, semillas..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ultivo de plant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ría de animales nativ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iscicultu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Ecoturism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5:55:25Z</dcterms:created>
  <dc:creator>Inma</dc:creator>
  <dc:description/>
  <dc:language>en-US</dc:language>
  <cp:lastModifiedBy>inma</cp:lastModifiedBy>
  <dcterms:modified xsi:type="dcterms:W3CDTF">2012-04-09T16:51:30Z</dcterms:modified>
  <cp:revision>30</cp:revision>
  <dc:subject/>
  <dc:title>Impactos en la biosfera</dc:title>
</cp:coreProperties>
</file>